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B42-DE28-47FC-B171-EFB3BADF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B0B-F28B-4406-B172-8147B857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47F-5BC0-41C8-847A-81387365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9CA-B159-4C20-910F-FFF5258E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872-F17C-463A-B2A2-FFB0F933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384-81AD-4F0E-95A0-B69C9B3B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6C34-405D-479B-AE21-E79EF0D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70B-C273-47AC-B1FC-D6B6B2BB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41F-4910-4F10-A079-34E47B41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2AE-E652-4180-ADEA-AF0A2855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5257-8118-4804-B0D0-EB5F6B92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C39D-76C7-446A-94DA-6C5AB11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EE67-D60A-42F1-B877-4EEF1023D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eu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orang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jaun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ver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violet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oir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64000"/>
            <a:ext cx="663876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arron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ug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0280" y="5364000"/>
            <a:ext cx="6378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s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104292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an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9:59:13Z</dcterms:created>
  <dc:creator>Helen</dc:creator>
  <dc:description/>
  <dc:language>en-US</dc:language>
  <cp:lastModifiedBy>Helen</cp:lastModifiedBy>
  <dcterms:modified xsi:type="dcterms:W3CDTF">2010-05-11T20:02:42Z</dcterms:modified>
  <cp:revision>1</cp:revision>
  <dc:subject/>
  <dc:title>bleu</dc:title>
</cp:coreProperties>
</file>